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7D87B-0ED7-4B29-BA9D-4DE651CD4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4C73D-FFBA-4403-80E8-65E7FEE2B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C051B-2248-42A5-9DEE-19E07C96F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3BE0B-7C2F-4DDC-967A-A11E2F43C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4D911-6D69-4BC6-B6C9-B7A495362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ABDF9-5E28-4038-A652-F9DDC93CB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2C91D-BB7D-4C6E-8B9C-56CA06905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1055D-6924-4D99-A612-E9230CC7C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2432F-D74A-45D9-92D0-88A92BE38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0BA9D-D386-4F17-9A0C-A1D18B55E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913C8-3A23-45BE-A4CE-E136A871E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DEE77-CC46-4D83-A614-1A71FBBB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57BB2-DB07-4C33-92D2-9B62AB9C6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12788-5AE4-46BD-88AA-5271EC186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C87C8-D848-4123-8C0C-9EE9118CB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1D1FD-7A91-4948-A6CE-B53C3ACC9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7872A-3227-46F2-A934-175B63D82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B7AE-7120-40C0-A51D-9AEB3F2F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2A07-FF83-4D78-BA96-A86BC62C9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5294A-2244-4AF5-BC2C-DB5E02180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0A191-C213-48FD-8B6E-CA756F22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E02C-4B4E-477D-B7F4-378DEF38A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58915-5302-4AC0-B410-8A3E15417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2A139-1423-4FE2-961F-05404AEF1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2852-0388-49D3-9F25-0677449F5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43D5-1759-42EB-938B-E9A98B435F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llying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id Lopez</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828D-DF75-4FE8-AD4E-600840F337E1}" type="datetime2">
              <a:rPr b="0" lang="en-US" sz="3200" spc="-1" strike="noStrike">
                <a:solidFill>
                  <a:srgbClr val="ffffff"/>
                </a:solidFill>
                <a:latin typeface="Times New Roman"/>
              </a:rPr>
              <a:t>Wednesday, July 29,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tell the reader that bullying is happening at school everyday and somehow bullying needs to be stopped way way bullying can be stopped is telling the teacher or taking a st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personalize the pitch.</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reat story tell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 A kid gets bullied in the beginning of the movie and and getting his feelings hur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 later another kid see the the kid that was getting bullied and goes tell a teacher.</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I: when tells the teacher they both go where the boy is getting bullied, then the bullying stop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how you make money:  who will see your movi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ill make money by asking my friends, and my family and I think my movie might be special and different by letting my friends and my family know that bullying can be a problem, and we can stop it by taking a stand and telling a teac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20:50:12Z</dcterms:created>
  <dc:creator/>
  <dc:description/>
  <dc:language>en-US</dc:language>
  <cp:lastModifiedBy>City School</cp:lastModifiedBy>
  <dcterms:modified xsi:type="dcterms:W3CDTF">2013-02-19T21:27:03Z</dcterms:modified>
  <cp:revision>39</cp:revision>
  <dc:subject/>
  <dc:title>The Pitch-Then-Plan Business Planning Template</dc:title>
</cp:coreProperties>
</file>